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7E4-18E5-413D-9A34-6C72E9BC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A75-53D1-4D45-816C-8541495B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1BC-28AF-418C-B5DD-3B1EAFDA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9EA-DC36-4D96-9967-8F7EEC31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10A-DD8D-412F-BD10-1BF0111B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723-BF61-460F-AD34-2CDDD250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FB9-4736-493E-90BF-1E9C62D2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E60-4478-4582-848E-B916CEAA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7B7-1616-40DF-8EA8-7F67145F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9EE-3078-4B0D-897A-52AA539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8B2-2EDE-40EA-9A05-BB0B3F17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144-4486-413C-B54C-AB15769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B01E-54E9-4276-ADEC-5B65D345F1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28" descr="MRC-logo"/>
          <p:cNvPicPr/>
          <p:nvPr/>
        </p:nvPicPr>
        <p:blipFill>
          <a:blip r:embed="rId2"/>
          <a:stretch/>
        </p:blipFill>
        <p:spPr>
          <a:xfrm>
            <a:off x="7839000" y="6400800"/>
            <a:ext cx="1168560" cy="31752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B941-431E-4823-AC73-2BA6AFE3D7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2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E98D-3FE8-47DC-B250-815BBA2E0A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170C-28BD-498F-824E-29AF3BBB08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FA2B-52A2-45F2-B03A-793F3DE0D1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B33E-0881-40CE-976B-768FAF3ACD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3E34-254D-4CB8-873F-919D3D9807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1EFD-8A15-4778-ACC0-19FECA75D6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A1A7-8691-4E0B-BA65-962B628636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8E6E-CE96-4FB7-9BCD-BC0E2B701E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4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6916-91F4-4130-8157-E2C4B29BD9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B512-E5D7-48E8-8A18-88A34499F8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0D13-B37C-4CC4-A647-4E02A4BB77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2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DEFA-E5B7-481B-A6AC-AEDF691976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E957-2EF8-4D5D-8B4C-E766068DD5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ECC-A180-4DCF-BCF1-C84E4D6736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6BC2-6C4D-4245-83A7-22483C430B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C225-86D1-4933-A6F5-7EA5DC5ED1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DA28-3ED0-4CD8-84AF-2CA1BEF9EC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E389-16CA-410C-AC66-73A829AD64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9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9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9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20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20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20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20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20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20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20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2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2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22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22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2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EF24-C57E-4B6C-A17C-ED120158D9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9BAC-D9FC-469E-9843-F54C3A0013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A40E-0CB9-4A15-9A28-12AEA858DA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2FA0-9461-48E1-8D40-1944986224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E3A-0CAB-4FA5-A068-621C346528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0855-55B9-4677-872E-16457AB2CD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4F7B-D7C0-4A94-846D-DE7076B4F3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7EA3-10E9-4E8A-99D9-200639B44A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6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2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12B6-05F8-4C48-AD6C-A8B02DFB8B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0FFA-5D95-4001-B9C1-419C795E0E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69DF-F44F-4533-866D-E6563FBED7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BCBD-5BCE-4389-8F02-F68421FFC6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9D41-F489-4505-8E25-E15D88951B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3637-F9E8-4709-9520-6194BE6A7C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4896-2F22-4FC1-9188-6E631494C2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7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FA39-B60C-44FA-8A8C-0284A882CF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56C0-BCA6-44A3-846B-CDFB26571E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33C5-0B38-4EFB-9069-AD3DFABBEC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E7C8-A99D-4AC9-B90B-814D97DD9D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E37A-17C3-4B10-9C86-0BBDD5E81C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86AA-CB47-43E2-A08B-7FEDD9A8CD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F4BA-AD62-4BF5-8AFC-F75FF761B8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35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12C1-0E35-4BCE-81A9-37384C9174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BF2F-FD3C-446C-8501-95517DD036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36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A8C9-F72A-47DE-9029-2044C0933B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37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D85B-86D9-4131-885C-312D49290E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AF8F-CDFB-4FCA-8ABB-9F4A154B0F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7D7F-36F5-49D5-84CA-6AE5F743C6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6B15-9A57-408A-BFBB-6E437B5D5D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2063-98A9-42DA-A072-47171F3979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E751-5A46-476C-891E-618C36F95F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611E-C442-4A0C-B329-EE2B4E5701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C6A0-6A4C-4C9D-BD93-6CC642A7C0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4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F5BC-B4EF-473F-8A03-66AAA41BB8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is cas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4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2C2D-51B4-4D6E-AC5B-0CACA3BCFC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11am on Thursday 8 November (TWO weeks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419F-C19E-4829-B417-2CBFEF5272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91F0-137D-42AD-B225-7CB654007D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99FD-3D40-4D0E-8E0A-B464433B55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44AF-C4BE-41AB-80FD-EBCB280111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2-08-08T11:01:49Z</dcterms:modified>
  <cp:revision>89</cp:revision>
  <dc:subject/>
  <dc:title>Aims and Objectives</dc:title>
</cp:coreProperties>
</file>